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A86-6FFB-42C4-8521-7B9CC64E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93E-3AE4-43D9-B0C0-BB83955D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3AA-3E04-4C35-B455-743BC9D2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688-8A0D-43A9-9AF5-1ABC9F6D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503-6848-481E-AFD4-D5658AFF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C8E-E91B-4D87-BBC6-25844EE4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4E3-C9A6-454F-951D-E95F0A0E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E07-EC7F-4CE3-AD8F-8153E1ED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FFB-7598-46A8-849E-46F84602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A75-AB37-44F0-A44A-AF4C9D2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859-9917-4D39-A6E1-8B924DB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6AD-7506-4D9F-B21A-062BBA75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2252-B746-4655-BD9C-2BCD65913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ortland.edu/APENS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6858000" cy="15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AG Rounded Thin"/>
              </a:rPr>
              <a:t>Become a </a:t>
            </a:r>
            <a:br>
              <a:rPr sz="48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VAG Rounded Thi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VAG Rounded Thin"/>
              </a:rPr>
              <a:t>ertified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VAG Rounded Thi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VAG Rounded Thin"/>
              </a:rPr>
              <a:t>dapted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VAG Rounded Thin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VAG Rounded Thin"/>
              </a:rPr>
              <a:t>hysical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VAG Rounded Thin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VAG Rounded Thin"/>
              </a:rPr>
              <a:t>ducator</a:t>
            </a:r>
            <a:r>
              <a:rPr b="0" lang="en-US" sz="5400" spc="-1" strike="noStrike">
                <a:solidFill>
                  <a:srgbClr val="000000"/>
                </a:solidFill>
                <a:latin typeface="VAG Rounded Thi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2514240"/>
            <a:ext cx="5715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AG Rounded Thin"/>
              </a:rPr>
              <a:t>Take the Adapted Physical Education National Standards Exam (APENS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7924680"/>
            <a:ext cx="5867280" cy="99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191120"/>
            <a:ext cx="61941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APENS National Exam Dat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turday, June 3rd,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application deadline is April 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0600" y="5334120"/>
            <a:ext cx="6737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would like more information regarding the APENS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Manual, APENS Study Guide, or APENS Applic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visit our web site at: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www.cortland.edu/APE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:   Timothy D. Davis, Ph.D., 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ENS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Y Cor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land, NY 130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888-APENS-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or 607-753-4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AG Rounded Thin"/>
              </a:rPr>
              <a:t>Do you know your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VAG Rounded Thin"/>
              </a:rPr>
              <a:t>APENS Standards?</a:t>
            </a:r>
            <a:br>
              <a:rPr sz="1800"/>
            </a:br>
            <a:br>
              <a:rPr sz="1800"/>
            </a:br>
            <a:r>
              <a:rPr b="1" lang="en-US" sz="6000" spc="-1" strike="noStrike">
                <a:solidFill>
                  <a:srgbClr val="ff0000"/>
                </a:solidFill>
                <a:latin typeface="VAG Rounded Thin"/>
              </a:rPr>
              <a:t>Take the </a:t>
            </a:r>
            <a:br>
              <a:rPr sz="6000"/>
            </a:br>
            <a:r>
              <a:rPr b="1" lang="en-US" sz="6000" spc="-1" strike="noStrike" u="sng">
                <a:solidFill>
                  <a:srgbClr val="ff0000"/>
                </a:solidFill>
                <a:uFillTx/>
                <a:latin typeface="VAG Rounded Thin"/>
              </a:rPr>
              <a:t>APENS EXAM</a:t>
            </a:r>
            <a:r>
              <a:rPr b="1" lang="en-US" sz="6000" spc="-1" strike="noStrike">
                <a:solidFill>
                  <a:srgbClr val="ff0000"/>
                </a:solidFill>
                <a:latin typeface="VAG Rounded Thin"/>
              </a:rPr>
              <a:t> Saturday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63244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AG Rounded Thin"/>
              </a:rPr>
              <a:t>ON SITE REGISTRATION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AG Rounded Thin"/>
              </a:rPr>
              <a:t>WALK-INS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7772400"/>
            <a:ext cx="586728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4952880"/>
            <a:ext cx="49752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 AM - 12 (No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ntion Center: N 1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32:54Z</dcterms:created>
  <dc:creator>SUNY Cortland</dc:creator>
  <dc:description/>
  <dc:language>en-US</dc:language>
  <cp:lastModifiedBy>cstopka</cp:lastModifiedBy>
  <dcterms:modified xsi:type="dcterms:W3CDTF">2005-08-19T16:20:43Z</dcterms:modified>
  <cp:revision>8</cp:revision>
  <dc:subject/>
  <dc:title>Become a  Certified Adapted Physical Educator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17664658</vt:r8>
  </property>
  <property fmtid="{D5CDD505-2E9C-101B-9397-08002B2CF9AE}" pid="3" name="_AuthorEmail">
    <vt:lpwstr>DAVIST@cortland.edu</vt:lpwstr>
  </property>
  <property fmtid="{D5CDD505-2E9C-101B-9397-08002B2CF9AE}" pid="4" name="_AuthorEmailDisplayName">
    <vt:lpwstr>Timothy Davis</vt:lpwstr>
  </property>
  <property fmtid="{D5CDD505-2E9C-101B-9397-08002B2CF9AE}" pid="5" name="_EmailSubject">
    <vt:lpwstr>APENS flier</vt:lpwstr>
  </property>
</Properties>
</file>